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9249-7F4B-43A8-887D-C847A0DC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C7FC-ED31-45DD-9CE4-1A89D1D5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2584-337C-44D0-B2F3-1FB7C04E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30E8-CB67-454A-86FD-20ECABBA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7067-C432-481F-8FA7-E2682724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F99F-9E0F-43DE-A7E8-B6368772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4E7-2216-455D-877B-A70427F5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8BEA-C82B-4569-9C8D-1625AA10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2BB4-48A7-4792-A8CB-4BF4D306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7F75-EA34-408C-95B1-931EFA34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8711-ABD1-4C21-8445-9FAA40C4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6209-A726-42AA-97FF-59663A28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3FB9-6109-4D00-BF0B-BF3C2FDA7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arm 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8672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Jonathan B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83040" y="335268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086520" y="35812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038400" y="35812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049720" y="3352680"/>
            <a:ext cx="97020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001000" y="36576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19240" y="36576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875340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-665280" y="4952880"/>
            <a:ext cx="970200" cy="19065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928692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-114300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876312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-665280" y="4952880"/>
            <a:ext cx="970200" cy="19065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2805120" y="1143000"/>
            <a:ext cx="35337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830592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-13176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2805120" y="1143000"/>
            <a:ext cx="35337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777240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40176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2805120" y="1143000"/>
            <a:ext cx="3533760" cy="4572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457200" y="4648320"/>
            <a:ext cx="5335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4191120"/>
            <a:ext cx="68580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" y="3048120"/>
            <a:ext cx="213372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d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777240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40176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2805120" y="1143000"/>
            <a:ext cx="3533760" cy="45720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7620120" y="4952880"/>
            <a:ext cx="5331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91520" y="4419720"/>
            <a:ext cx="68580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324480" y="3200400"/>
            <a:ext cx="213372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are w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777240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40176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2805120" y="1143000"/>
            <a:ext cx="3533760" cy="45720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219320" y="5029200"/>
            <a:ext cx="5331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371600" y="4648320"/>
            <a:ext cx="68580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3505320"/>
            <a:ext cx="213372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ding Credit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777240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40176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2805120" y="1143000"/>
            <a:ext cx="3533760" cy="45720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7315200" y="5181480"/>
            <a:ext cx="5335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4724280"/>
            <a:ext cx="68580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553080" y="3505320"/>
            <a:ext cx="213372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’s th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777240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40176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2805120" y="1143000"/>
            <a:ext cx="3533760" cy="4572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295280" y="5105520"/>
            <a:ext cx="5335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4648320"/>
            <a:ext cx="68580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219320" y="3429000"/>
            <a:ext cx="213336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’s LeShaw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’s the b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777240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40176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2805120" y="1143000"/>
            <a:ext cx="3533760" cy="45720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7467480" y="5029200"/>
            <a:ext cx="5335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162920" y="4648320"/>
            <a:ext cx="68580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019920" y="3352680"/>
            <a:ext cx="236196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looks aweso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696080" y="36576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23800" y="36576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777240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40176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2805120" y="1143000"/>
            <a:ext cx="3533760" cy="45720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1295280" y="5257800"/>
            <a:ext cx="5335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600200" y="4724280"/>
            <a:ext cx="68580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38080" y="3429000"/>
            <a:ext cx="236232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h, I kn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777240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40176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2805120" y="1143000"/>
            <a:ext cx="3533760" cy="45720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5181480" y="1600200"/>
            <a:ext cx="5335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410080" y="1219320"/>
            <a:ext cx="68580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334120" y="0"/>
            <a:ext cx="236196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777240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40176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3"/>
          <a:stretch/>
        </p:blipFill>
        <p:spPr>
          <a:xfrm>
            <a:off x="2805120" y="1143000"/>
            <a:ext cx="3533760" cy="457200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5181480" y="1600200"/>
            <a:ext cx="5335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10080" y="1219320"/>
            <a:ext cx="68580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334120" y="0"/>
            <a:ext cx="236196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391520" y="36576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38080" y="36576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086600" y="36576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33640" y="36576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438200" y="36576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400800" y="371484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743120" y="36576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19920" y="371484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124000" y="36576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638680" y="371484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505240" y="36576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257800" y="371484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733840" y="37908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876920" y="371484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114720" y="37908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495680" y="371484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495600" y="37908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114800" y="371484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876840" y="37908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733920" y="371484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267080" y="37908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429000" y="37339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638600" y="37908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124080" y="38098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019840" y="37908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 rot="19716600">
            <a:off x="2743200" y="37908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 rot="2134800">
            <a:off x="5019840" y="37908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 rot="1386600">
            <a:off x="2742840" y="386676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 rot="20046600">
            <a:off x="5019480" y="379044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 rot="19899600">
            <a:off x="274320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 rot="1282800">
            <a:off x="5019480" y="379044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 rot="1080600">
            <a:off x="274284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 rot="19932600">
            <a:off x="5019840" y="37908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 rot="19489200">
            <a:off x="2743200" y="386676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 rot="1572600">
            <a:off x="5019480" y="37908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 rot="1128000">
            <a:off x="2743200" y="386676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 rot="20100600">
            <a:off x="5019840" y="379044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74320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019840" y="37908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 rot="16200000">
            <a:off x="229068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 rot="5400000">
            <a:off x="5472000" y="37908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 rot="10800000">
            <a:off x="183348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 rot="10800000">
            <a:off x="6005520" y="37908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 rot="5400000">
            <a:off x="137628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 rot="16200000">
            <a:off x="6462720" y="379584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06668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77232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-588960" y="380988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8763120" y="3809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06668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77232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 rot="5400000">
            <a:off x="-142920" y="3809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 rot="16200000">
            <a:off x="8316720" y="3809520"/>
            <a:ext cx="97020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6668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77232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 rot="10800000">
            <a:off x="248760" y="3809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 rot="10800000">
            <a:off x="7924320" y="3809880"/>
            <a:ext cx="97020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06668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77232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 rot="16200000">
            <a:off x="696600" y="380952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 rot="5400000">
            <a:off x="7478280" y="3809880"/>
            <a:ext cx="97020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06668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77232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087560" y="380988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7010280" y="3809880"/>
            <a:ext cx="97020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06668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77232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 rot="5400000">
            <a:off x="1533240" y="3809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 rot="16200000">
            <a:off x="6563880" y="3809520"/>
            <a:ext cx="97020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06668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77232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 rot="10800000">
            <a:off x="1773360" y="380988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 rot="10800000">
            <a:off x="6324120" y="3809880"/>
            <a:ext cx="97020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06668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77232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 rot="16200000">
            <a:off x="2371320" y="380952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 rot="5400000">
            <a:off x="5725800" y="3809880"/>
            <a:ext cx="97020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06668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77232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2763720" y="3809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5334120" y="3809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926000">
            <a:off x="106632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19638000">
            <a:off x="677196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19696800">
            <a:off x="2763360" y="380952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1822200">
            <a:off x="5334120" y="380952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 rot="20806800">
            <a:off x="1066320" y="386676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 rot="1254000">
            <a:off x="6772320" y="386676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 rot="1719000">
            <a:off x="2763720" y="380952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 rot="19749600">
            <a:off x="5334120" y="3809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 rot="1926000">
            <a:off x="106632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 rot="19638000">
            <a:off x="677196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 rot="19696800">
            <a:off x="2763360" y="380952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 rot="1822200">
            <a:off x="5334120" y="380952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 rot="20806800">
            <a:off x="1066320" y="386676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 rot="1254000">
            <a:off x="6772320" y="386676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 rot="1719000">
            <a:off x="2763720" y="380952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 rot="19749600">
            <a:off x="5334120" y="3809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 rot="1926000">
            <a:off x="106632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 rot="19638000">
            <a:off x="677196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 rot="19696800">
            <a:off x="2763360" y="380952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 rot="1822200">
            <a:off x="5334120" y="380952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 rot="20806800">
            <a:off x="1066320" y="386676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 rot="1254000">
            <a:off x="6772320" y="386676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 rot="1719000">
            <a:off x="2763720" y="380952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 rot="19749600">
            <a:off x="5334120" y="3809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 rot="1926000">
            <a:off x="106632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 rot="19638000">
            <a:off x="677196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 rot="19696800">
            <a:off x="2763360" y="380952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 rot="1822200">
            <a:off x="5334120" y="380952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 rot="20806800">
            <a:off x="1066320" y="386676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 rot="1254000">
            <a:off x="6772320" y="386676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 rot="1719000">
            <a:off x="2763720" y="380952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 rot="19749600">
            <a:off x="5334120" y="3809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20960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77232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2763720" y="3809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334120" y="3809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209600" y="35812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772320" y="35812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2763720" y="3809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5334120" y="3809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209600" y="29718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772320" y="29718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763720" y="3809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5334120" y="3809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 rot="16200000">
            <a:off x="1209600" y="27385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 rot="5400000">
            <a:off x="6772320" y="27385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763720" y="3809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5334120" y="3809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 rot="10800000">
            <a:off x="1209600" y="24382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 rot="10800000">
            <a:off x="6772320" y="24382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2763720" y="3809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5334120" y="3809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 rot="5400000">
            <a:off x="1209600" y="21286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 rot="16200000">
            <a:off x="6772320" y="21286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2763720" y="3809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5334120" y="3809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209600" y="21286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6772320" y="21286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2763720" y="3809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5334120" y="3809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 rot="16200000">
            <a:off x="1209600" y="2724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 rot="5400000">
            <a:off x="6772320" y="2724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763720" y="3809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5334120" y="3809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220320" y="36576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-1000080" y="36576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 rot="10800000">
            <a:off x="1209600" y="31050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 rot="10800000">
            <a:off x="6772320" y="31050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2763720" y="3809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5334120" y="3809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 rot="5400000">
            <a:off x="1209600" y="34909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 rot="16200000">
            <a:off x="6843600" y="34146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2763720" y="3809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5334120" y="3809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209600" y="34290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843600" y="33526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2763720" y="342900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5334120" y="342900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209600" y="2895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6843600" y="28195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2763720" y="304812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5334120" y="304812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209600" y="23623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6843600" y="22860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2763720" y="2666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5334120" y="2666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209600" y="18288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6843600" y="1752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2763720" y="22096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257800" y="220824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209600" y="18288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6843600" y="1752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2840040" y="175248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5334120" y="17524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09600" y="12952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6696000" y="12762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840040" y="129528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5334120" y="12952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209600" y="762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848640" y="762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2840040" y="76212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5334120" y="76212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209600" y="2286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6848640" y="2286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2840040" y="15228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5334120" y="1522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915400" y="36576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-695160" y="36576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209600" y="-3049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6848640" y="-3049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2840040" y="-38088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5334120" y="-30492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209600" y="-8380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6848640" y="-8380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2840040" y="-91440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5334120" y="-91440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209600" y="-13716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848640" y="-131436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2840040" y="-144792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5334120" y="-144792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209600" y="-1905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848640" y="-18288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2840040" y="-198108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5334120" y="-19810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410080" y="-13906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5410080" y="-13906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2840040" y="-160164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2840040" y="-160164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410080" y="-933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2840040" y="-122076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5410080" y="-4762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2916360" y="-76356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5410080" y="-190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2916360" y="-30636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410080" y="3808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2916360" y="15084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5410080" y="8190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2916360" y="60804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610480" y="36576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-380880" y="36576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5410080" y="12762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2916360" y="106524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5410080" y="18097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2916360" y="159876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410080" y="234324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2916360" y="213192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5410080" y="28764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2916360" y="266544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5410080" y="34290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2916360" y="319896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5410080" y="40194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2916360" y="380844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5410080" y="462924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2916360" y="441792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541008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291636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809880" y="4724280"/>
            <a:ext cx="5335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33920" y="5105520"/>
            <a:ext cx="3808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3048120"/>
            <a:ext cx="2590920" cy="1523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3733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’s Candyland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541008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291636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876920" y="4724280"/>
            <a:ext cx="5331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81480" y="5105520"/>
            <a:ext cx="3812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3048120"/>
            <a:ext cx="2590920" cy="1523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3581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are the oth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291636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2666880" y="4952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5705640" y="518148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05920" y="36576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-85680" y="36576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541008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291636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2362320" y="495288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6010200" y="518148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541008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291636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1981080" y="4952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5"/>
          <a:stretch/>
        </p:blipFill>
        <p:spPr>
          <a:xfrm>
            <a:off x="6315120" y="518148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 rot="5400000">
            <a:off x="541008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 rot="16200000">
            <a:off x="2916000" y="4952520"/>
            <a:ext cx="970200" cy="19065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 rot="16200000">
            <a:off x="1295280" y="4952520"/>
            <a:ext cx="970200" cy="19069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 rot="5400000">
            <a:off x="7000920" y="518148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 rot="10800000">
            <a:off x="578160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 rot="10800000">
            <a:off x="259092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 rot="10800000">
            <a:off x="914400" y="495288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5"/>
          <a:stretch/>
        </p:blipFill>
        <p:spPr>
          <a:xfrm rot="10800000">
            <a:off x="7381800" y="518148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 rot="16200000">
            <a:off x="615780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 rot="5400000">
            <a:off x="2220480" y="4952880"/>
            <a:ext cx="970200" cy="19065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 rot="5400000">
            <a:off x="544320" y="4952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5"/>
          <a:stretch/>
        </p:blipFill>
        <p:spPr>
          <a:xfrm rot="16200000">
            <a:off x="7758000" y="518148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662004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1752480" y="4952880"/>
            <a:ext cx="970200" cy="19065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76320" y="495288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5"/>
          <a:stretch/>
        </p:blipFill>
        <p:spPr>
          <a:xfrm>
            <a:off x="8220240" y="518148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662004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1752480" y="4952880"/>
            <a:ext cx="970200" cy="19065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76320" y="495288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5"/>
          <a:stretch/>
        </p:blipFill>
        <p:spPr>
          <a:xfrm>
            <a:off x="8220240" y="518148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745812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99072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4"/>
          <a:stretch/>
        </p:blipFill>
        <p:spPr>
          <a:xfrm>
            <a:off x="-457200" y="495288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5"/>
          <a:stretch/>
        </p:blipFill>
        <p:spPr>
          <a:xfrm>
            <a:off x="8753400" y="518148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745812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99072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-914400" y="495288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5"/>
          <a:stretch/>
        </p:blipFill>
        <p:spPr>
          <a:xfrm>
            <a:off x="9058320" y="518148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837252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00:32:27Z</dcterms:created>
  <dc:creator>David Bach</dc:creator>
  <dc:description/>
  <dc:language>en-US</dc:language>
  <cp:lastModifiedBy>David Bach</cp:lastModifiedBy>
  <dcterms:modified xsi:type="dcterms:W3CDTF">2008-11-22T15:19:21Z</dcterms:modified>
  <cp:revision>8</cp:revision>
  <dc:subject/>
  <dc:title>The Farm Dance</dc:title>
</cp:coreProperties>
</file>