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108-0D10-44B2-ABA5-F569AC59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D7FC-45DC-4F40-8066-9839EA5B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386-1DC4-490E-B086-6AE93075C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EDD-8184-4102-AAD1-06EC1A79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7A88-8CCB-4A6B-B71C-20CAF7E8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C6D-9EAF-4BA4-87C8-BE0DF13A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2A4-6723-421D-AEA0-E57A062E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251-4313-41FA-97A4-6D5E992C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B5C2-941F-464D-BBBA-E59D07B3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45E-2A3A-421C-895C-4F4F04AB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5A3-4D38-41B2-8C02-BF2E3B9D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221B-0136-48B0-BD6D-30817D12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F679-AEE0-4E6E-87AA-F325B269B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rm 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8672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: Jonathan B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83040" y="33526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086520" y="35812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038400" y="35812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049720" y="3352680"/>
            <a:ext cx="9702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001000" y="3657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924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8753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-665280" y="4952880"/>
            <a:ext cx="970200" cy="19065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928692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-114300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876312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-665280" y="4952880"/>
            <a:ext cx="970200" cy="19065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830592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-13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40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457200" y="4648320"/>
            <a:ext cx="5335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4191120"/>
            <a:ext cx="6858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3048120"/>
            <a:ext cx="21337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d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40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7620120" y="4952880"/>
            <a:ext cx="5331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91520" y="4419720"/>
            <a:ext cx="6858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324480" y="3200400"/>
            <a:ext cx="21337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re w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40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219320" y="5029200"/>
            <a:ext cx="5331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4648320"/>
            <a:ext cx="6858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3505320"/>
            <a:ext cx="21337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ding Credi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40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7315200" y="5181480"/>
            <a:ext cx="5335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4724280"/>
            <a:ext cx="6858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553080" y="3505320"/>
            <a:ext cx="21337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’s t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40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295280" y="5105520"/>
            <a:ext cx="5335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4648320"/>
            <a:ext cx="6858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3429000"/>
            <a:ext cx="21333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’s LeShaw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’s the b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40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7467480" y="5029200"/>
            <a:ext cx="5335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162920" y="4648320"/>
            <a:ext cx="6858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19920" y="3352680"/>
            <a:ext cx="2361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looks aweso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96080" y="3657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2380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40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295280" y="5257800"/>
            <a:ext cx="5335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600200" y="4724280"/>
            <a:ext cx="6858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3429000"/>
            <a:ext cx="23623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h, I k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40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5181480" y="1600200"/>
            <a:ext cx="5335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410080" y="1219320"/>
            <a:ext cx="6858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334120" y="0"/>
            <a:ext cx="2361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7724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4017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2805120" y="1143000"/>
            <a:ext cx="3533760" cy="457200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5181480" y="1600200"/>
            <a:ext cx="5335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10080" y="1219320"/>
            <a:ext cx="6858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334120" y="0"/>
            <a:ext cx="236196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391520" y="3657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3808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86600" y="3657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3364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43820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400800" y="37148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4312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9920" y="37148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12400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638680" y="37148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50524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257800" y="37148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73384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876920" y="37148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11472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495680" y="37148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49560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14800" y="37148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87684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733920" y="37148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26708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429000" y="37339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63860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124080" y="38098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01984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19716600">
            <a:off x="2743200" y="37908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rot="2134800">
            <a:off x="501984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 rot="1386600">
            <a:off x="274284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 rot="20046600">
            <a:off x="5019480" y="379044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 rot="19899600">
            <a:off x="274320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 rot="1282800">
            <a:off x="5019480" y="379044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1080600">
            <a:off x="274284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19932600">
            <a:off x="501984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 rot="19489200">
            <a:off x="274320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 rot="1572600">
            <a:off x="501948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 rot="1128000">
            <a:off x="274320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 rot="20100600">
            <a:off x="5019840" y="379044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74320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01984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 rot="16200000">
            <a:off x="2290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 rot="5400000">
            <a:off x="547200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 rot="10800000">
            <a:off x="18334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 rot="10800000">
            <a:off x="6005520" y="37908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 rot="5400000">
            <a:off x="13762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 rot="16200000">
            <a:off x="6462720" y="379584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66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-588960" y="3809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8763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066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 rot="5400000">
            <a:off x="-1429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 rot="16200000">
            <a:off x="8316720" y="3809520"/>
            <a:ext cx="9702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66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 rot="10800000">
            <a:off x="24876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 rot="10800000">
            <a:off x="7924320" y="3809880"/>
            <a:ext cx="9702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066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 rot="16200000">
            <a:off x="69660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 rot="5400000">
            <a:off x="7478280" y="3809880"/>
            <a:ext cx="9702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066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87560" y="3809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010280" y="3809880"/>
            <a:ext cx="9702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066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 rot="5400000">
            <a:off x="153324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 rot="16200000">
            <a:off x="6563880" y="3809520"/>
            <a:ext cx="9702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066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 rot="10800000">
            <a:off x="1773360" y="3809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 rot="10800000">
            <a:off x="6324120" y="3809880"/>
            <a:ext cx="9702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066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 rot="16200000">
            <a:off x="237132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 rot="5400000">
            <a:off x="5725800" y="3809880"/>
            <a:ext cx="9702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06668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926000">
            <a:off x="1066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19638000">
            <a:off x="677196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19696800">
            <a:off x="276336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1822200">
            <a:off x="5334120" y="38095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 rot="20806800">
            <a:off x="106632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 rot="1254000">
            <a:off x="677232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 rot="1719000">
            <a:off x="276372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 rot="19749600"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 rot="1926000">
            <a:off x="1066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 rot="19638000">
            <a:off x="677196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 rot="19696800">
            <a:off x="276336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 rot="1822200">
            <a:off x="5334120" y="38095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 rot="20806800">
            <a:off x="106632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 rot="1254000">
            <a:off x="677232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 rot="1719000">
            <a:off x="276372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 rot="19749600"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 rot="1926000">
            <a:off x="1066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 rot="19638000">
            <a:off x="677196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 rot="19696800">
            <a:off x="276336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 rot="1822200">
            <a:off x="5334120" y="38095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 rot="20806800">
            <a:off x="106632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 rot="1254000">
            <a:off x="677232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 rot="1719000">
            <a:off x="276372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 rot="19749600"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 rot="1926000">
            <a:off x="1066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 rot="19638000">
            <a:off x="677196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 rot="19696800">
            <a:off x="276336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 rot="1822200">
            <a:off x="5334120" y="38095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 rot="20806800">
            <a:off x="106632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 rot="1254000">
            <a:off x="6772320" y="38667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 rot="1719000">
            <a:off x="2763720" y="38095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 rot="19749600"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20960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6772320" y="3867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209600" y="35812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772320" y="35812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209600" y="29718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772320" y="29718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 rot="16200000">
            <a:off x="1209600" y="27385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 rot="5400000">
            <a:off x="6772320" y="27385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 rot="10800000">
            <a:off x="1209600" y="24382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 rot="10800000">
            <a:off x="6772320" y="24382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 rot="5400000">
            <a:off x="1209600" y="21286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 rot="16200000">
            <a:off x="6772320" y="21286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209600" y="21286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772320" y="21286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 rot="16200000">
            <a:off x="1209600" y="2724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 rot="5400000">
            <a:off x="6772320" y="2724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220320" y="3657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-100008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 rot="10800000">
            <a:off x="1209600" y="31050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 rot="10800000">
            <a:off x="6772320" y="31050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 rot="5400000">
            <a:off x="1209600" y="34909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 rot="16200000">
            <a:off x="6843600" y="3414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2763720" y="3809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5334120" y="3809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209600" y="34290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843600" y="33526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2763720" y="342900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5334120" y="342900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209600" y="2895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843600" y="28195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2763720" y="304812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5334120" y="30481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209600" y="23623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6843600" y="22860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2763720" y="2666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334120" y="26668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209600" y="18288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843600" y="1752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763720" y="22096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257800" y="220824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209600" y="18288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6843600" y="1752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2840040" y="17524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5334120" y="17524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09600" y="12952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696000" y="12762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2840040" y="12952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5334120" y="12952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209600" y="762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848640" y="762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840040" y="76212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5334120" y="7621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209600" y="228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848640" y="228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2840040" y="1522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5334120" y="1522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915400" y="3657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-69516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209600" y="-3049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6848640" y="-3049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2840040" y="-380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5334120" y="-3049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1209600" y="-8380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6848640" y="-8380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840040" y="-91440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5334120" y="-91440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209600" y="-1371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848640" y="-131436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840040" y="-144792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5334120" y="-14479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209600" y="-19051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848640" y="-18288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2840040" y="-19810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5334120" y="-198108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410080" y="-13906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410080" y="-13906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2840040" y="-160164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2840040" y="-160164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410080" y="-933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2840040" y="-122076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410080" y="-4762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2916360" y="-76356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410080" y="-190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916360" y="-30636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410080" y="3808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2916360" y="15084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410080" y="8190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916360" y="60804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610480" y="3657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-38088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410080" y="12762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2916360" y="106524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410080" y="180972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916360" y="159876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5410080" y="23432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2916360" y="21319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410080" y="28764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2916360" y="266544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2916360" y="319896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5410080" y="40194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2916360" y="380844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410080" y="462924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2916360" y="4417920"/>
            <a:ext cx="96984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541008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29163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809880" y="4724280"/>
            <a:ext cx="5335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733920" y="5105520"/>
            <a:ext cx="3808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3048120"/>
            <a:ext cx="259092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6720" y="3733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’s Candyland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41008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29163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4876920" y="4724280"/>
            <a:ext cx="5331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81480" y="5105520"/>
            <a:ext cx="3812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3048120"/>
            <a:ext cx="259092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3581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are the oth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9163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2666880" y="4952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570564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05920" y="365760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-85680" y="365760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541008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29163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2362320" y="4952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601020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41008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291636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1981080" y="4952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631512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 rot="5400000">
            <a:off x="541008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 rot="16200000">
            <a:off x="2916000" y="4952520"/>
            <a:ext cx="970200" cy="19065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 rot="16200000">
            <a:off x="1295280" y="4952520"/>
            <a:ext cx="970200" cy="1906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5"/>
          <a:stretch/>
        </p:blipFill>
        <p:spPr>
          <a:xfrm rot="5400000">
            <a:off x="700092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 rot="10800000">
            <a:off x="57816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 rot="10800000">
            <a:off x="259092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 rot="10800000">
            <a:off x="914400" y="4952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5"/>
          <a:stretch/>
        </p:blipFill>
        <p:spPr>
          <a:xfrm rot="10800000">
            <a:off x="738180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 rot="16200000">
            <a:off x="615780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 rot="5400000">
            <a:off x="2220480" y="4952880"/>
            <a:ext cx="970200" cy="19065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 rot="5400000">
            <a:off x="544320" y="4952880"/>
            <a:ext cx="970200" cy="19065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"/>
          <a:stretch/>
        </p:blipFill>
        <p:spPr>
          <a:xfrm rot="16200000">
            <a:off x="775800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62004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1752480" y="4952880"/>
            <a:ext cx="970200" cy="19065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76320" y="4952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822024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62004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1752480" y="4952880"/>
            <a:ext cx="970200" cy="19065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6320" y="4952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822024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745812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4"/>
          <a:stretch/>
        </p:blipFill>
        <p:spPr>
          <a:xfrm>
            <a:off x="-457200" y="4952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5"/>
          <a:stretch/>
        </p:blipFill>
        <p:spPr>
          <a:xfrm>
            <a:off x="875340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745812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99072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-914400" y="4952880"/>
            <a:ext cx="969840" cy="19065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5"/>
          <a:stretch/>
        </p:blipFill>
        <p:spPr>
          <a:xfrm>
            <a:off x="9058320" y="5181480"/>
            <a:ext cx="10000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8372520" y="5181480"/>
            <a:ext cx="1000080" cy="16192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4952880"/>
            <a:ext cx="969840" cy="19065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098960" y="323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22720" y="3192480"/>
            <a:ext cx="195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00:32:27Z</dcterms:created>
  <dc:creator>David Bach</dc:creator>
  <dc:description/>
  <dc:language>en-US</dc:language>
  <cp:lastModifiedBy>David Bach</cp:lastModifiedBy>
  <dcterms:modified xsi:type="dcterms:W3CDTF">2008-11-22T15:19:21Z</dcterms:modified>
  <cp:revision>8</cp:revision>
  <dc:subject/>
  <dc:title>The Farm Dance</dc:title>
</cp:coreProperties>
</file>